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20E7-7270-4DB4-9AE7-F2B44D4062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巴黎去救他们家族的一个仆人说明了他是一个善良的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at’s why Charles  hated the cruel deeds of the Frenc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h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was sentenced to death because he belonged to the family of the Marq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判处死刑是因为他是侯爵家族的成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rth 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ow this fact from the sentence in Paragraph 4 “Madam Defarge was the sister of the peasant boy and sis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F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法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了有催眠作用的药，使他离开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can say that Sydney was determined to help his friends. This also proved that he was a kind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哪个选项不是这个故事的意图：故事中没有提到任何有关两个城市的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ay attention to the question, which one is not mentioned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fter reading the whole story, it is easy for to find the answer. Because we can’t find any information on the two cities: London and Paris. But we can read about Sydney’s devotion of love, the noble’s cruelty and the poor young peasant and hi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tually, in the original novel, just before Sydney had his head cut off, he gave a speech. Do you want to  know his last speech? Let’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我错做过的最好的事情，这是我所知道的最好的休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n you understand his last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 Sydney very great man. I think so. I think he is one of the greatest men in the world. Don’t you think s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p to now, we have finished reading the story. Do you enjoy it. I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e you read any English novel? If not, I advice you to read this novel “A Tale of Two Cities”. When you read, I would say do not read a short summary, but the original one, either in Chinese or in English, it depends on your English level, so long as you can know about more details. For me I prefer the English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everyone!. Good to see you again. Today we are going to learn the last lesson in Unit 22, Lesson 87. Before that, Let’s go over the studying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农村革命者放火烧贵族的城堡，将它们夷为平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lease pay attention to the underlined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介词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 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。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跌到地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撕成碎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宣判死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word I want to mention is “addr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this sentence, the word “address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动词，短语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ddress to sb,” means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写某人的姓名或地址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有一封写给你的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包裹不是寄给我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we know, the word “address” is also used as a noun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无法看清信封上的地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word “address” and let’s move to the next one “or rath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者更确切地说，是写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 Evremon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侯爵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phrase “or rather” means “more exactly” or “more truly”. In Chinese we say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确切地说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昨天晚上我很晚才睡，更确切地说，我是今天凌晨才谁的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是一名英语教师，更准确地说，他是一名英语教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 we use this phrase, we must pay attention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我们在使用这个短语是要注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r rath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一个插入语，一般置于句子的中间，并用逗号将它于句子的前后部分隔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on one’s arriv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而，当他一到巴黎就立即被人认出是贵族，因而被投入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结构里的固定用法是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n/ upon + one’s / the 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，表示“一……就……”，注意：这里的名词一般都是有动词变来的，其它的普通名词一般不可以用在这里。比如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板一进来他们都站了起来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r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一回美国就开始他的写作。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既是名词也可以用作动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throug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得知他法国家中的一个仆人无辜地被关进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介词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法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no faul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no reas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无辜地”；“没有原因地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没原因地丢了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男孩因为吃得太多而生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都是因为你刚才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ree goals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但从意思上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相当于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a result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e t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样一个意思我们可以用多种方式表达，比如这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因为交通拥挤而上课迟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面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the thick traff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用如下形式表达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“through”. Next one is “doub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法庭里的人们听到这件事后，他们脑子里无疑都认为汕头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. Evremond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家族实在是罪孽深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里是名词，表示“怀疑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会按时来还很难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事谁干的我心里有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整件事情仍未见分晓。注意这里的词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不确定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名词，可以用在如下的结构中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们如果能自己动手查查字典，找出各个结构的例句会对这些结构有更深的理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do wro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刚才已经见过这个句子了，请同学们注意这里的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希望你永不做错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做了错事，但他真心的悔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刚才的例句，我们知道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名词，表示“错事；坏事；冤屈”等，其反义词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正确的事”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孩子们是非不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good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做好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harm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害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one’s best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t’s look at the last one  “eager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from the tex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他又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r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酒店，了解到为什么他们夫妇强烈要求处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原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形容词，表示“渴望的；热切的”，通常用在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 eager to do s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渴望做某事”或“热心做某事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都渴望看看首都的名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营业员热情地接待了我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意思接近的词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强调“焦急的；发愁的；忧虑的”等意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作状语时，可以表示时间、原因、条件、伴随、结果等。请看例句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坐在扶手椅上读报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ading the newspaper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伴随，是伴随着谓语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t in the armchai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其实这句话相当于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sat in the armchair and read the news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comes the two pre-rea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open your book at page 58,  let’s listen to the tape, while listening, think about the two questions. You can make some note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生病，她只好卧床休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ing ill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原因，说明“她卧床休息的原因”。这句话我们换一种方式讲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had to stay in bed because she was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he was ill, she had to stay in 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此，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表示原因是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, as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原因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那男孩跌倒了，头碰在门上碰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king his head against the do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utting 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，表示跌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e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结果。如果我们换一种方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boy fell so that he stroke his head against the door and c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表示结果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结果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咱们再看第四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在外出前穿衣服时把镜子打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essing to go 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时间。我们也可以换一种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broke her looking glass when she was dressing to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时间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, before, after, as soon a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时间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老站着只会弄得你更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eeping on your fe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条件。如果我们换成条件状语从句的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you keep on your feet, you will only make yourself more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条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条件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刚才我们总结了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的用法，有一点还请大家注意，各种从句都要有完整的主谓结构，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中没有主语。那么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所表示的动作的执行者是什么呢？这个形式主语要和主句的主语是一致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也就是说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做状语，表示句子主语的主动动作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到呼救声，他们都冲出了房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完晚饭，他出去散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个句子中，无论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ing h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都是句子的主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发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Please finish Part 3 and Part 4 on Page 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Please finish Exercise 2 and 3 on page 120 in your work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For the writing homework, you are required to writing an introduction to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glish Novel which you have ever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ording to the story, a lot of things happened to Charles Darn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irst he returned to France to rescue a servant of his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oon as he arrived at Paris, he was recognized as a no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was thrown into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the St. Evremonde family had done much wrong, Charles was sentenced to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 looked very much like 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he </a:t>
            </a:r>
            <a:r>
              <a:rPr b="0" lang="zh-CN" sz="1200" spc="-1" strike="noStrike">
                <a:solidFill>
                  <a:srgbClr val="ffcc66"/>
                </a:solidFill>
                <a:latin typeface="Arial"/>
              </a:rPr>
              <a:t>took the place of his friend, Charles, had his head cut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say, Sydney sacrificed his own life for Charles and his wife Lucie. We can also say that Sydney sacrificed his own life for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crifice /`s  drifais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牺牲；献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any idea of this part of the story? I want to show you some comprehension questions, and I think they can help you understand the story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 will do next is to choose the best answer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黎的穷人起来反抗法国贵族是因为穷人们受到残酷的对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ew it when read the firs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47B-9074-4190-A9FB-16E24A21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B45-5AAF-46DF-9F44-0B6FCDE6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9E0-B8ED-47B1-B776-ABBD16BC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B49-9DD5-475C-9605-B96ADB98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2802-A84C-4D8C-BA95-4D5CB2FE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7218-CFC9-425C-B353-B0687C0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77D-71D2-4A68-85B1-AA4BC6C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32A-D4D8-42FF-B107-CD25C36D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CF96-177F-490A-B49F-BCE637E7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0810-35A7-41F7-8173-356AD506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E848-73B6-43B3-AB75-24CF8304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0B5-75CA-4672-944E-1B5A1530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6A9E-757D-4F36-B382-82F661B8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673-6527-4D2D-823F-893364C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A9CB-8B5C-4C82-94F9-88A51A91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878C-07C0-4D03-80C6-AE6E6AB3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2D7B-0037-41D1-AE0E-23F748EC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C7B-569A-484F-B70B-1223135C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F54-10BE-4543-BFB3-C9AC22AA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ADC-2C7E-4ED0-B900-A68CAB36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AF5-C43E-463E-B42A-7212D6D8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F7B-B77A-493D-BDFE-EF066D2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D64-7350-4437-BCAE-4357871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DC0-B01A-48CF-A3D8-26F4BD5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544-7803-4F5F-B5E0-4F3F63DD3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846B-EEB3-4676-BFC8-AD2A41187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U22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MingLiU"/>
              </a:rPr>
              <a:t>A Tale of Two Cities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邵紫    师大二附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810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9640" y="17524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Sydney’s Last Speech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22280" y="2209320"/>
            <a:ext cx="660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a far, far better thing tha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than I have ever done; it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ar, far better rest that I go to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I have ever know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Unit 22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Lesson 87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A Tale of Two Cit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French_revolution2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7; Para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untry the revolution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fire to the nobles’ cast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ur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m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971800"/>
            <a:ext cx="4114800" cy="1219320"/>
          </a:xfrm>
          <a:prstGeom prst="wedgeEllipseCallout">
            <a:avLst>
              <a:gd name="adj1" fmla="val -58180"/>
              <a:gd name="adj2" fmla="val -8268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短语表示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19494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2200" y="3975120"/>
            <a:ext cx="33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r …to pie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o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v.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him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447560"/>
            <a:ext cx="690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 to sb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写某人的姓名或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a lett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s package is no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read th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this envelop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addressed to him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Marquis St. Evremonde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: more exactly; more tru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更确切地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sleep very late last night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early this mor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an English teach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a professor of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5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wev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his arriva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 Par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recognized as a nobl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rown into pri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/ upon + one’s / the +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一…就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stood up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the entran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f their b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Upon his retur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USA, he began his 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rough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p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 4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found that a servant of the family in France had been put in prison,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o fault of his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267080"/>
            <a:ext cx="4495680" cy="1676520"/>
          </a:xfrm>
          <a:prstGeom prst="cloudCallout">
            <a:avLst>
              <a:gd name="adj1" fmla="val -23907"/>
              <a:gd name="adj2" fmla="val -6079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no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 sth. / doing sth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由于……；因为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lost his job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no faul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boy became i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ating too mu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was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you said jus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Learn about the ending of the sto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Learn useful expres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Grammar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–ing Form as Adverb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9640" y="1676160"/>
            <a:ext cx="6754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: because of; as a result of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late for class throug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cause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s a result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 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(Line 7; Para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the people in the court heard thi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ere was no 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their minds that the St. Evremonde family had done much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983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怀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som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ether John will come o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ve no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o di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whole matter is still i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必定；无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怀疑；猜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no doubt (about) ... / that …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ithout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8;Para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 was no doubt in their mind that the St. Evremonde family ha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much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98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错事；做坏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hope you will nev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ha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but he felt truly sor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45960" y="1946160"/>
            <a:ext cx="62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,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righ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ildren don’t know the difference betwee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igh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good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好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harm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有害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one’s best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60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.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4; Para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n he went to Defarge’s wine shop, where he learnt why they were so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eager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  have Charles sentenced to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渴望的；热切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be eager to do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’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eager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ee the sights of the ca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assistan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as eager to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erve u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nxiou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He sat in the armchai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ading the newspap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3600" y="415908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sat in the armchair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d read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newspap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Pre-reading Ques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37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ing il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9760" y="3000240"/>
            <a:ext cx="59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to stay in be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eca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0680" y="42354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s  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The boy fell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triking his head against the do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cutting 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3686040"/>
            <a:ext cx="62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y fell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 that he struck 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head against the do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ut 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She broke her looking glas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ressing to go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760" y="39625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roke her looking glass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dressing to go o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Keeping on your f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you will only make yourself more ti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0840" y="3914640"/>
            <a:ext cx="63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If you keep on your f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you wi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make yourself more ti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83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所表示的主语的动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Hearing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ry for help, they rushed out of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Having ha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, he went out for a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. Page 59, Part 3, 4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. Workbook, page 120, Exx 2, 3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 Writing: An Introduction to An English Nov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676160"/>
            <a:ext cx="6526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1640" y="281952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returned to France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scue a serv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3640" y="3930480"/>
            <a:ext cx="59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* … recognized by some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and thrown into pri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920" y="51055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sentenc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50520" y="1945800"/>
            <a:ext cx="68310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7120" y="3305160"/>
            <a:ext cx="65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took the place of his friend and had his head cut off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2320" y="457200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sacrificed his own life for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09:03:12Z</dcterms:modified>
  <cp:revision>342</cp:revision>
  <dc:subject/>
  <dc:title>Unit 19 A freedom fighter (continued)</dc:title>
</cp:coreProperties>
</file>